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7D1-1D2D-4ACA-94D4-AD798C34C8C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Jools and     Topp, Barak Obama, Mahinur Ozdemir: First Belgium MP to Don the Hija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2AE-81F2-49F4-8F8D-3BD132031C0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B0D4-7776-4B83-BBE3-FF61BCCC4DC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8F7-C48A-46DC-8B02-A2F297BA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794-3A2A-4E7E-A401-E018E6D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8B9-F2DD-4834-8ECB-3C05A2A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83D-A937-47D3-B8BC-D5C02DE2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234E-555F-49F8-AAEE-6A74DEE6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CF43B-900D-4E16-B974-7C8ED6C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0D94-FE48-4974-AF03-8F82504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9EBD3-8DAA-4D28-A47B-D53F9DB3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229A1-045E-4BC9-91AE-4F43ACD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91055-5894-49C4-A738-3CFA408B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EDFC-84F1-4935-B4A7-0D217AB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561-D659-4BF2-B2E0-37679823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4C50-F7ED-4D7F-9484-1EA2C15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BAA4D-52BC-4728-BCE9-FBD05A0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58B14-B4E2-465D-B951-398C5CA2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0B0E4-A0C8-4493-9E30-23B121E4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DEA66-947B-4991-9C26-3214AF85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D386-994F-4DEF-8217-888B99C2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C9741-CD75-42C0-8359-D89B034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F0F7-F421-46E3-AAE0-EE6E7D56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AD59-267B-4181-BB22-0B6D70D2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359A-FFC5-4388-987D-586A0B7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0BB-B4A4-4379-BF0F-379C4DE9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F109-633F-4BA2-ADC4-298DAF2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8B35-147C-44E6-B2EE-CF1C65C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2AD7-46D3-4265-B33A-9DFE76F6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3F12-82EA-420A-87BA-7945630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72A6-0799-458A-8D20-5B0DC61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7FC3-32F8-4BAE-BC02-B6130258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83CB-E42F-45C0-8206-B388DB9B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69937-97A8-4DAB-A5EE-44A72886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D5FA7-ECA9-40A1-98A1-E0A833F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AE169-65B9-4450-B9D8-C4C2D94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19F-B8F1-47B9-A5AD-1C8D6B2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ADDA4-815D-42AF-8FD8-799A4F3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FA7D0-FEC1-4B59-8B24-96510248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20740-9AF1-4964-892B-63C48B2F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664E3-8D48-46C3-84D1-337B5E0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B11B2-C325-4A0D-AF83-16B33B1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5E7C2-12C3-4526-B449-9B355EE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EEF78-FA13-494A-BDA9-473BBA9D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3750E-A918-4E39-A47D-600CE034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695EC-8FD9-4D37-A821-2305AEC6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275-9370-44FF-89B6-4BDFDF00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A31-FFA3-4F87-87AE-2B93F9E2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0B9-1251-490F-ACCF-B54E862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4C4-6F6A-493A-8A85-74450A7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08D-D436-46A2-84A1-57D0B73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EB1-B4D8-4B80-B1B0-BB5264D888DC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cb400"/>
          </a:solidFill>
          <a:ln w="38160">
            <a:solidFill>
              <a:srgbClr val="ccb40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B2FF-A4E2-4CE8-9281-75D863ED7045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0A28-3B7D-4C29-A9A0-9B409D98B855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aeb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b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9583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b39e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c5d1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782-DA95-4DDB-A2F4-552FE8C79B45}" type="slidenum">
              <a:rPr b="0" lang="en-NZ" sz="1600" spc="-1" strike="noStrike">
                <a:solidFill>
                  <a:srgbClr val="c5d1d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ustaddnewzealanders.com/assets/images/large/topp-twins.jpg&amp;imgrefurl=http://www.justaddnewzealanders.com/trailers/topp-twins-untouchable-girls&amp;usg=__psrzcUWXNw9kFqjMeZi2sZ5sISc=&amp;h=721&amp;w=800&amp;sz=101&amp;hl=en&amp;start=77&amp;tbnid=X4az5mhrrwIqCM:&amp;tbnh=129&amp;tbnw=143&amp;prev=/images%3Fq%3Djools%2Btopp%26gbv%3D2%26ndsp%3D20%26hl%3Den%26sa%3DN%26start%3D60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hotlineblog.nationaljournal.com/Barack%2520Obama%2520Capitol.jpg&amp;imgrefurl=http://hotlineoncall.nationaljournal.com/archives/2008/11/&amp;usg=__o9iFW4Ffq3mhLZ00ymBmiwD7tpk=&amp;h=1000&amp;w=800&amp;sz=188&amp;hl=en&amp;start=4&amp;tbnid=Kk2YHg2QDSqz6M:&amp;tbnh=149&amp;tbnw=119&amp;prev=/images%3Fq%3DBarak%2BObama%26gbv%3D2%26hl%3Den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topp-tw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92888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Barack%2520Obama%2520Capit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00840" y="3357720"/>
            <a:ext cx="2000160" cy="250488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19" descr=""/>
          <p:cNvPicPr/>
          <p:nvPr/>
        </p:nvPicPr>
        <p:blipFill>
          <a:blip r:embed="rId5"/>
          <a:stretch/>
        </p:blipFill>
        <p:spPr>
          <a:xfrm>
            <a:off x="237960" y="341280"/>
            <a:ext cx="838224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760320" y="585792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ssumptions do we make about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2" descr="http://www.islamonline.net/servlet/Satellite?blobcol=urldata&amp;blobheader=image%2Fjpeg&amp;blobkey=id&amp;blobtable=MungoBlobs&amp;blobwhere=1246515619944&amp;ssbinary=true"/>
          <p:cNvPicPr/>
          <p:nvPr/>
        </p:nvPicPr>
        <p:blipFill>
          <a:blip r:embed="rId6"/>
          <a:stretch/>
        </p:blipFill>
        <p:spPr>
          <a:xfrm>
            <a:off x="3524400" y="3357720"/>
            <a:ext cx="204768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www.bookcouncil.org.nz/users/Image/Writer%20Files/Mila,%20Karlo/.thumb_213.33333333333213.33333333333226234240Profile.jpg"/>
          <p:cNvPicPr/>
          <p:nvPr/>
        </p:nvPicPr>
        <p:blipFill>
          <a:blip r:embed="rId7"/>
          <a:stretch/>
        </p:blipFill>
        <p:spPr>
          <a:xfrm>
            <a:off x="5286240" y="11430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2" descr="http://www.islamonline.net/servlet/Satellite?blobcol=urldata&amp;blobheader=image%2Fjpeg&amp;blobkey=id&amp;blobtable=MungoBlobs&amp;blobwhere=1246515619944&amp;ssbinary=true"/>
          <p:cNvPicPr/>
          <p:nvPr/>
        </p:nvPicPr>
        <p:blipFill>
          <a:blip r:embed="rId1"/>
          <a:stretch/>
        </p:blipFill>
        <p:spPr>
          <a:xfrm>
            <a:off x="1000080" y="714240"/>
            <a:ext cx="2048040" cy="2457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 flipH="1">
            <a:off x="3429000" y="857160"/>
            <a:ext cx="42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re do you think she is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religion is sh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571920" y="2286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ahinur Ozdemi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irst Belgium MP to don the Hij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8" descr="Jemaima Tiatia and Suresa"/>
          <p:cNvPicPr/>
          <p:nvPr/>
        </p:nvPicPr>
        <p:blipFill>
          <a:blip r:embed="rId2"/>
          <a:stretch/>
        </p:blipFill>
        <p:spPr>
          <a:xfrm>
            <a:off x="5715000" y="2928960"/>
            <a:ext cx="2382840" cy="1787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14240" y="328608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re do you think she is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w would you describe 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715000" y="47862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Jemaima Tiatia – A NZ born Pacific Islan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http://www.bookcouncil.org.nz/users/Image/Writer%20Files/Mila,%20Karlo/.thumb_213.33333333333213.33333333333226234240Profile.jpg"/>
          <p:cNvPicPr/>
          <p:nvPr/>
        </p:nvPicPr>
        <p:blipFill>
          <a:blip r:embed="rId3"/>
          <a:stretch/>
        </p:blipFill>
        <p:spPr>
          <a:xfrm>
            <a:off x="1428840" y="4214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3714840" y="5786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Karlo Mila, poet, born of </a:t>
            </a: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Tongan, Palag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and Samoan desc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I am a Samoan – but not a Samoan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my aiga in Samoa, I am a palagi [foreigner]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I am a New Zealander – but not a New Zealander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New Zealanders, I am a bloody coconut, at worst,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A Pacific Islander, at best,</a:t>
            </a:r>
            <a:br>
              <a:rPr sz="2600"/>
            </a:b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To my Samoan parents, I am their child.”</a:t>
            </a:r>
            <a:r>
              <a:rPr b="0" lang="en-NZ" sz="26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9" descr="http://www.bookcouncil.org.nz/users/Image/Writer%20Files/Mila,%20Karlo/.thumb_213.33333333333213.33333333333226234240Profile.jpg"/>
          <p:cNvPicPr/>
          <p:nvPr/>
        </p:nvPicPr>
        <p:blipFill>
          <a:blip r:embed="rId1"/>
          <a:stretch/>
        </p:blipFill>
        <p:spPr>
          <a:xfrm>
            <a:off x="2928960" y="428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214280" y="1143000"/>
            <a:ext cx="671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verse encapsulates the paradox of identity for many New Zealand-born Samoans. In Samoan communities they are not ‘Samoan enough’; they are ‘fiapalagi’ (wanting to be like a Europea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the wider New Zealand community Samoans have been taunted as ‘not New Zealanders’, ‘coconuts’, or ‘FOBs’ (fresh off the boa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se see-sawing perceptions may end for some in a secure self-identity, but for others in a state of con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1143000" y="364320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Jemaima Tiatia and Suresa Gav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any young Samoans face a conflict between the strict traditional values of respect for elders and church and their more liberal New Zealand experience. In </a:t>
            </a:r>
            <a:r>
              <a:rPr b="0" i="1" lang="en-NZ" sz="1800" spc="-1" strike="noStrike">
                <a:solidFill>
                  <a:srgbClr val="ffffff"/>
                </a:solidFill>
                <a:latin typeface="Arial"/>
              </a:rPr>
              <a:t>Caught between cultures: a New Zealand-born Pacific Island perspectiv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(1988) Jemaima Tiatia, a 24-year-old Auckland university student, wrote of this conflict after talking to 20 New Zealand-born Pacific Islanders. Here she shares a joke with her grandmother, Suresa Gav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Jemaima Tiatia and Suresa Gavet"/>
          <p:cNvPicPr/>
          <p:nvPr/>
        </p:nvPicPr>
        <p:blipFill>
          <a:blip r:embed="rId1"/>
          <a:stretch/>
        </p:blipFill>
        <p:spPr>
          <a:xfrm>
            <a:off x="1857240" y="571680"/>
            <a:ext cx="4762800" cy="31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14240" y="571680"/>
            <a:ext cx="792972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y do Pacific Islanders come to New Zea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ere did they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nstantia"/>
              </a:rPr>
              <a:t>Where did they se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nstantia"/>
              </a:rPr>
              <a:t>Click on these sites to check out the ans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030a0"/>
                </a:solidFill>
                <a:latin typeface="Arial"/>
              </a:rPr>
              <a:t>http://www.teara.govt.nz/en/samoan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99"/>
                </a:solidFill>
                <a:latin typeface="Arial"/>
              </a:rPr>
              <a:t>http://www.teara.govt.nz/en/tongans/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</a:rPr>
              <a:t>http://www.teara.govt.nz/en/south-pacific-people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3:31:32Z</dcterms:created>
  <dc:creator>Miller</dc:creator>
  <dc:description/>
  <dc:language>en-US</dc:language>
  <cp:lastModifiedBy>Administrator</cp:lastModifiedBy>
  <dcterms:modified xsi:type="dcterms:W3CDTF">2009-12-06T11:29:19Z</dcterms:modified>
  <cp:revision>11</cp:revision>
  <dc:subject/>
  <dc:title>Slide 1</dc:title>
</cp:coreProperties>
</file>